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2.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626B6-2B92-4BDE-99B9-D681B294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9956-4B7B-469D-8805-42C39863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168EA-BA81-46FF-853B-6AC7CCE02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D8334-FDF6-41FF-9632-548C87F2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7E19E-8497-416D-BE0C-0AA48FFB4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B5E7F-5926-4C11-AE28-FAD73101F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EF06E-971F-4822-B6E7-1DE2761D9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B22B6-FA00-45CF-BCC9-810B7E6C5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518FD-71C7-40D2-AC14-3F73AA10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4921D-3EAE-4A91-9B46-AF54E8234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5B307-716A-44E5-98DC-B68BECD5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596E9-73CE-453E-8D58-87EB89371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F9B1E-CA75-4EEE-B248-5D7E95AB5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D2C87-7841-451E-BCF5-20AA552AB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FC83C-DA7C-456D-A7BD-5A1E5E401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15DED-3A49-4CEA-A058-03F806300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6B6EA-BBD9-40F7-95BF-B91A0DF6A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4616-DD55-4216-9199-7E2051B9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9668-B1E3-4531-B621-D688BFAF8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38795-E6C9-4D32-8AC9-9975DB8D9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A1BE-5F60-4ACE-A490-7FF031A57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45C0-590C-4A7C-8412-C5B5BC17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CF90-5586-4118-A3A6-04091919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D780-DD25-47D4-9656-740E41B59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F6C5-6B17-49D5-AC86-0571C0644BA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49FB-3F94-4241-A097-B27E603F9E9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file:///quantum%20tunnel%20effect%20and%20tunneling%20microscope.mp4"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K64Tv2mK5h4" TargetMode="External"/><Relationship Id="rId2" Type="http://schemas.openxmlformats.org/officeDocument/2006/relationships/hyperlink" Target="https://www.youtube.com/watch?v=t5czJq8JpG4" TargetMode="External"/><Relationship Id="rId3" Type="http://schemas.openxmlformats.org/officeDocument/2006/relationships/hyperlink" Target="https://www.youtube.com/watch?v=0jP7baCqFLw" TargetMode="External"/><Relationship Id="rId4" Type="http://schemas.openxmlformats.org/officeDocument/2006/relationships/hyperlink" Target="https://www.youtube.com/watch?v=wNEqRq6NyUw" TargetMode="External"/><Relationship Id="rId5" Type="http://schemas.openxmlformats.org/officeDocument/2006/relationships/hyperlink" Target="https://www.youtube.com/watch?v=MZb8C0f7Kdg" TargetMode="External"/><Relationship Id="rId6" Type="http://schemas.openxmlformats.org/officeDocument/2006/relationships/hyperlink" Target="https://www.youtube.com/watch?v=DwB6l5cCf8E" TargetMode="External"/><Relationship Id="rId7" Type="http://schemas.openxmlformats.org/officeDocument/2006/relationships/hyperlink" Target="https://www.youtube.com/watch?v=1Wc0ki1pEVg" TargetMode="External"/><Relationship Id="rId8" Type="http://schemas.openxmlformats.org/officeDocument/2006/relationships/hyperlink" Target="https://www.youtube.com/watch?v=WgDxnTxqoMA" TargetMode="External"/><Relationship Id="rId9" Type="http://schemas.openxmlformats.org/officeDocument/2006/relationships/hyperlink" Target="http://winntbg.bg.agh.edu.pl/rozprawy/9875/full9875.pdf" TargetMode="External"/><Relationship Id="rId10" Type="http://schemas.openxmlformats.org/officeDocument/2006/relationships/hyperlink" Target="http://pl.wikipedia.org/wiki/Elektronowy_mikroskop_skaningowy" TargetMode="External"/><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WgDxnTxqoMA" TargetMode="External"/><Relationship Id="rId2" Type="http://schemas.openxmlformats.org/officeDocument/2006/relationships/hyperlink" Target="file:///mikroskop%20AGH.mp4"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1341000"/>
            <a:ext cx="8204040" cy="4319640"/>
          </a:xfrm>
          <a:prstGeom prst="rect">
            <a:avLst/>
          </a:prstGeom>
          <a:noFill/>
          <a:ln w="0">
            <a:noFill/>
          </a:ln>
        </p:spPr>
        <p:txBody>
          <a:bodyPr lIns="92160" rIns="92160" tIns="46080" bIns="4608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irtualna wycieczka do pracowni wyposażonej w mikroskop skaningowy w tym  skaningowy mikroskop tunelowy STM i mikroskop sił atomowych AFM.</a:t>
            </a:r>
            <a:br>
              <a:rPr sz="2000"/>
            </a:br>
            <a:br>
              <a:rPr sz="2000"/>
            </a:br>
            <a:br>
              <a:rPr sz="2000"/>
            </a:br>
            <a:br>
              <a:rPr sz="2000"/>
            </a:br>
            <a:r>
              <a:rPr b="0" lang="pl-PL" sz="2000" spc="-1" strike="noStrike">
                <a:solidFill>
                  <a:srgbClr val="000000"/>
                </a:solidFill>
                <a:latin typeface="Arial"/>
              </a:rPr>
              <a:t>Jacek Ślósar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kaningowa mikroskopia tunelowa (ang. scanning tunnelling microscopy - STM) jest przodkiem wszystkich mikroskopii wykorzystujących sondy skanujące. Pozwalają one na obrazowanie powierzchni próbki z rozdzielczością atomową bez naświetlania jej lub używania soczewe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68360" y="1125000"/>
            <a:ext cx="8229600" cy="4526280"/>
          </a:xfrm>
          <a:prstGeom prst="rect">
            <a:avLst/>
          </a:prstGeom>
          <a:noFill/>
          <a:ln w="0">
            <a:noFill/>
          </a:ln>
        </p:spPr>
        <p:txBody>
          <a:bodyPr anchor="t">
            <a:normAutofit fontScale="97000"/>
          </a:bodyPr>
          <a:p>
            <a:pPr indent="0" algn="just">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kaningowy mikroskop tunelowy STM jest urządzeniem badawczym </a:t>
            </a:r>
            <a:br>
              <a:rPr sz="2000"/>
            </a:br>
            <a:r>
              <a:rPr b="0" lang="pl-PL" sz="2000" spc="-1" strike="noStrike">
                <a:solidFill>
                  <a:srgbClr val="000000"/>
                </a:solidFill>
                <a:latin typeface="Arial"/>
              </a:rPr>
              <a:t>o bardzo ciekawych możliwościach. Służy on do badania powierzchni głównie przewodników i półprzewodników. Dzięki unikalnej konstrukcji mikroskop ten "widzi" szczegóły tej powierzchni z rozdzielczością rzędu nanometrów a zatem może "dostrzec" pojedyncze atomy. Cienkie ostrze, poruszające się tuż ponad badaną powierzchnią, wykorzystuje do zbierania informacji na temat jej struktury kwantowy efekt tunelow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dy sonda znajdzie się dostatecznie blisko powierzchni (w odległości około </a:t>
            </a:r>
            <a:br>
              <a:rPr sz="1800"/>
            </a:br>
            <a:r>
              <a:rPr b="0" lang="pl-PL" sz="1800" spc="-1" strike="noStrike">
                <a:solidFill>
                  <a:srgbClr val="000000"/>
                </a:solidFill>
                <a:latin typeface="Arial"/>
              </a:rPr>
              <a:t>1 nm) rośnie prawdopodobieństwo kwantowego procesu tunelowania elektronów z atomów badanej powierzchni do ostrza. W wyniku tego zjawiska następuje przepływ prądu. Możliwe jest również tunelowanie elektronów </a:t>
            </a:r>
            <a:br>
              <a:rPr sz="1800"/>
            </a:br>
            <a:r>
              <a:rPr b="0" lang="pl-PL" sz="1800" spc="-1" strike="noStrike">
                <a:solidFill>
                  <a:srgbClr val="000000"/>
                </a:solidFill>
                <a:latin typeface="Arial"/>
              </a:rPr>
              <a:t>z sondy na badaną powierzchnię. To, który z procesów będzie miał miejsce, zależy od znaku przyłożonego napięcia. Obrazy STM powierzchni próbki uzyskuje się przez pomiar natężenia prądu płynącego w układzie. Jako że prąd tunelowania maleje wykładniczo wraz ze zwiększaniem się odległości między ostrzem a powierzchnią, możliwe jest uzyskanie informacji ojej topografii poprzez zmianę wysokości położenia sondy za pomocą piezoelektrycznego układu sterujące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ntowy efekt tunelowania:</a:t>
            </a:r>
            <a:endParaRPr b="0" lang="en-US" sz="32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quantum tunnel effect and tunneling microscope</a:t>
            </a: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K64Tv2mK5h4</a:t>
            </a: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struktorami tego urządzenia byli dwaj naukowcy z laboratorium IBM w Zurichu: Gerd Binning i Heinrich Rohrer. Prace nad mikroskopem rozpoczęto w 1978 roku i ukończono w 1982 roku. Za to wielkie osiągnięcie cztery lata później zostali wyróżnieni nagrodą Nobla z fizyk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ikroskop tunelowy był pierwszym urządzeniem, które umożliwiło obserwacje powierzchni kryształów w przestrzeni rzeczywistej. Dotychczas głównym źródłem informacji o powierzchni kryształów była dyfrakcja dająca obraz powierzchni kryształów w przestrzeni sieci odwrotnej. </a:t>
            </a:r>
            <a:endParaRPr b="0" lang="en-US" sz="2000" spc="-1" strike="noStrike">
              <a:solidFill>
                <a:srgbClr val="000000"/>
              </a:solidFill>
              <a:latin typeface="Calibri"/>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oświadczenie Binninga i Rohrera dało początek licznej już teraz rodzinie mikroskopów SPM (Scanning Probe Microscopes) </a:t>
            </a:r>
            <a:br>
              <a:rPr sz="2000"/>
            </a:br>
            <a:r>
              <a:rPr b="0" lang="pl-PL" sz="2000" spc="-1" strike="noStrike">
                <a:solidFill>
                  <a:srgbClr val="000000"/>
                </a:solidFill>
                <a:latin typeface="Arial"/>
              </a:rPr>
              <a:t>o podobnej koncepcji różniących się szczegółami konstrukcji </a:t>
            </a:r>
            <a:br>
              <a:rPr sz="2000"/>
            </a:br>
            <a:r>
              <a:rPr b="0" lang="pl-PL" sz="2000" spc="-1" strike="noStrike">
                <a:solidFill>
                  <a:srgbClr val="000000"/>
                </a:solidFill>
                <a:latin typeface="Arial"/>
              </a:rPr>
              <a:t>i charakterem wykorzystywanych oddziaływań do zbierania danyc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ikroskopy skaningowe pozwalają na bardzo precyzyjne pomiary powierzchni, ich przydatność jako urządzeń badawczych jest ogromna dla wielu gałęzi nauk ścisłych (fizyka, chemia, biofizyka). Urządzenia te w znacznym stopniu przyczyniły się do rozwoju nanotechnologi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8360" y="1125000"/>
            <a:ext cx="8229600" cy="496764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Zasada działania:</a:t>
            </a:r>
            <a:endParaRPr b="0" lang="en-US" sz="2000" spc="-1" strike="noStrike">
              <a:solidFill>
                <a:srgbClr val="000000"/>
              </a:solidFill>
              <a:latin typeface="Calibri"/>
            </a:endParaRPr>
          </a:p>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d powierzchnią próbki, która może być wykonana tylko z materiału przewodzącego prąd elektryczny lub być pokryta atomami metalu (tzw. napylanie), umieszczona jest sonda (igła), którą można poruszać </a:t>
            </a:r>
            <a:br>
              <a:rPr sz="2000"/>
            </a:br>
            <a:r>
              <a:rPr b="0" lang="pl-PL" sz="2000" spc="-1" strike="noStrike">
                <a:solidFill>
                  <a:srgbClr val="000000"/>
                </a:solidFill>
                <a:latin typeface="Arial"/>
              </a:rPr>
              <a:t>w sposób kontrolowany. Ramię trzymające igłę mocowane jest do aparatury poprzez skaner piezoelektryczny, który pod wpływem napięcia elektrycznego, w wyniku zjawiska piezoelektrycznego zmienia w niewielkim stopniu swe wymiary, a tym samym zmienia położenie igły przesuwając ją nad próbką. W innych rozwiązaniach układ piezoelektryczny porusza próbką, a sama sonda pozostaje nieruchoma. Przemiatanie (skanowanie) kolejnych linii i punktów obrazu próbki odbywa się według z góry zadanego programu.</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Konstrukcje mikroskopu i metody działania:</a:t>
            </a:r>
            <a:endParaRPr b="0" lang="en-US" sz="2400" spc="-1" strike="noStrike">
              <a:solidFill>
                <a:srgbClr val="000000"/>
              </a:solidFill>
              <a:latin typeface="Calibri"/>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Mikroskop STM może być zaprojektowany do skanowania próbki na dwa różne sposoby w trybie stałej odległości oraz w trybie stałego prądu. W pierwszym przypadku końcówka sondy porusza się w płaszczyźnie równoległej do powierzchni próbki. Podczas skanowania obserwuje się zmianę prądu tunelowania </a:t>
            </a:r>
            <a:br>
              <a:rPr sz="2400"/>
            </a:br>
            <a:r>
              <a:rPr b="0" lang="pl-PL" sz="2400" spc="-1" strike="noStrike">
                <a:solidFill>
                  <a:srgbClr val="000000"/>
                </a:solidFill>
                <a:latin typeface="Calibri"/>
              </a:rPr>
              <a:t>w zależności od topografii powierzchni i jej lokalnej struktury elektronowej. Podstawą do jej zobrazowania jest natężenie prądu zmierzone w każdym punkcie powierzchn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29600" cy="540072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dy eksperyment STM przeprowadzany jest z zachowaniem stałej wartości prądu tunelowania, wysokość, na której znajduje się ostrze, jest dobierane w każdym punkcie próbki tak, by przeciwdziałać zmianom prądu. I tak na przykład, gdy w układzie nastąpi wzrost liczby tunelowanych elektronów, końcówka sondy jest odsuwana od próbki w wyniku zmiany napięcia przykładanego do piezoelektrycznego skanera. W tym wariancie eksperymentu STM podstawą obrazowania powierzchni są dane o położeniu sondy. Jeśli układ pozwala na utrzymywanie prądu na stałym poziomie z dokładnością do kilku procent, to odległość ostrza od powierzchni będzie utrzymywana z dokładnością większą niż 0,01 n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4920" y="1267920"/>
            <a:ext cx="8280360" cy="4464360"/>
          </a:xfrm>
          <a:prstGeom prst="rect">
            <a:avLst/>
          </a:prstGeom>
          <a:noFill/>
          <a:ln w="0">
            <a:noFill/>
          </a:ln>
        </p:spPr>
        <p:txBody>
          <a:bodyPr anchor="t">
            <a:normAutofit fontScale="95000"/>
          </a:bodyPr>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ykaz źródeł, które wykorzystano przy tworzeniu niniejszej prezentacji</a:t>
            </a:r>
            <a:r>
              <a:rPr b="0" lang="pl-PL" sz="1600" spc="-1" strike="noStrike">
                <a:solidFill>
                  <a:srgbClr val="000000"/>
                </a:solidFill>
                <a:latin typeface="Arial"/>
              </a:rPr>
              <a:t>.</a:t>
            </a:r>
            <a:endParaRPr b="0" lang="en-US" sz="1600" spc="-1" strike="noStrike">
              <a:solidFill>
                <a:srgbClr val="000000"/>
              </a:solidFill>
              <a:latin typeface="Calibri"/>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Adresy URL:</a:t>
            </a:r>
            <a:endParaRPr b="0" lang="en-US" sz="16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1"/>
              </a:rPr>
              <a:t>https://www.youtube.com/watch?v=K64Tv2mK5h4</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2"/>
              </a:rPr>
              <a:t>https://www.youtube.com/watch?v=t5czJq8JpG4</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3"/>
              </a:rPr>
              <a:t>https://www.youtube.com/watch?v=0jP7baCqFLw</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4"/>
              </a:rPr>
              <a:t>https://www.youtube.com/watch?v=wNEqRq6NyUw</a:t>
            </a:r>
            <a:endParaRPr b="0" lang="en-US" sz="1400" spc="-1" strike="noStrike">
              <a:solidFill>
                <a:srgbClr val="000000"/>
              </a:solidFill>
              <a:latin typeface="Calibri"/>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5"/>
              </a:rPr>
              <a:t>https://www.youtube.com/watch?v=MZb8C0f7Kdg</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6"/>
              </a:rPr>
              <a:t>https://www.youtube.com/watch?v=DwB6l5cCf8E</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7"/>
              </a:rPr>
              <a:t>https://www.youtube.com/watch?v=1Wc0ki1pEVg</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8"/>
              </a:rPr>
              <a:t>https://www.youtube.com/watch?v=WgDxnTxqoMA</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Inne:</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Kelsall R.W. (red.), Nanotechnologie, Wydawnictwo Naukowe PWN, Warszawa 2009</a:t>
            </a:r>
            <a:br>
              <a:rPr sz="1400"/>
            </a:br>
            <a:r>
              <a:rPr b="0" lang="pl-PL" sz="1400" spc="-1" strike="noStrike" u="sng">
                <a:solidFill>
                  <a:srgbClr val="0000ff"/>
                </a:solidFill>
                <a:uFillTx/>
                <a:latin typeface="Arial"/>
                <a:hlinkClick r:id="rId9"/>
              </a:rPr>
              <a:t>http://winntbg.bg.agh.edu.pl/rozprawy/9875/full9875.pdf</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ff"/>
                </a:solidFill>
                <a:uFillTx/>
                <a:latin typeface="Arial"/>
                <a:hlinkClick r:id="rId10"/>
              </a:rPr>
              <a:t>http://pl.wikipedia.org/wiki/Elektronowy_mikroskop_skaningowy</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FM contact mode</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t5czJq8JpG4</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M Principle - How AFM Works</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0jP7baCqFLw</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prostszych rozwiązaniach zwanych metodą stałej wysokości (ang. constant height mode, CHM) igła porusza się na stałej wysokości nad próbką a aparatura rejestruje wyłącznie zmiany prądu tunelowego. Rozwiązanie to można stosować tylko w przypadku próbek o równej powierzchni. W tym rozwiązaniu jeżeli próbka zawiera wypukłości może dojść do kolizji igły z materiałem, a w wklęsłościach próbki obraz jest słaby a nawet całkowicie zanik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rozwiniętych konstrukcjach zwanych metodą stałego prądu lub metodą stałej odległości (ang. constant current mode, CCM, constant gap width mode, CGM) igła może oddalać się i przybliżać do próbki. Ustalanie odległości igła-próbka uzyskuje się za pomocą odpowiednio szybkiego układu ujemnego sprzężenia zwrotnego w układzie odległość – prąd tunelowy – napięcie sterujące wysokością. Prąd tunelowy, po odfiltrowaniu dużych częstotliwości, jest sygnałem wejściowym układu zapewniającego przepływ stałego prądu tunelowego. W układach tych do obrazowania powierzchni próbki wykorzystuje się wielkość prądu tunelowego oraz napięcie sterujące wysokością położenia igł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rozwiniętą metodą jest spektroskopia mikroskopu skaningowego (ang. scanning tunneling spectroscopy, STS) </a:t>
            </a:r>
            <a:br>
              <a:rPr sz="2000"/>
            </a:br>
            <a:r>
              <a:rPr b="0" lang="pl-PL" sz="2000" spc="-1" strike="noStrike">
                <a:solidFill>
                  <a:srgbClr val="000000"/>
                </a:solidFill>
                <a:latin typeface="Arial"/>
              </a:rPr>
              <a:t>w mikroskopie tym, dla danego położenia igły, wyznacza się zależność natężenia prądu od przyłożonego napięcia. Metoda ta umożliwia określenie gęstości stanów elektronów w badanej substancj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ryb stałej odległości jest techniką szybszą, lecz dostarcza użytecznych informacji tylko dla powierzchni stosunkowo gładkich. Mikroskopia STM przy stałym prądzie pozwala natomiast na dokładne mierzenie nieregularnych powierzchni. Jej wadą jest jednak długi czas pomiar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wNEqRq6NyUw</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studies with a scanning tunnelling microscope [english]</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360" y="764640"/>
            <a:ext cx="8229600" cy="5256360"/>
          </a:xfrm>
          <a:prstGeom prst="rect">
            <a:avLst/>
          </a:prstGeom>
          <a:noFill/>
          <a:ln w="0">
            <a:noFill/>
          </a:ln>
        </p:spPr>
        <p:txBody>
          <a:bodyPr anchor="t">
            <a:normAutofit/>
          </a:bodyPr>
          <a:p>
            <a:pPr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ikroskopia sił atomowych (ang. atomie force microscopy - AFM) została odkryta pięć lat po technice STM. Zaletą tej metody jest to, że pozwala badać nie tylko powierzchnię przewodników, ale również izolatorów </a:t>
            </a:r>
            <a:br>
              <a:rPr sz="2000"/>
            </a:br>
            <a:r>
              <a:rPr b="0" lang="pl-PL" sz="2000" spc="-1" strike="noStrike">
                <a:solidFill>
                  <a:srgbClr val="000000"/>
                </a:solidFill>
                <a:latin typeface="Calibri"/>
              </a:rPr>
              <a:t>i półprzewodników. W metodzie AFM używa się ostrza o długości ok. 2 um </a:t>
            </a:r>
            <a:br>
              <a:rPr sz="2000"/>
            </a:br>
            <a:r>
              <a:rPr b="0" lang="pl-PL" sz="2000" spc="-1" strike="noStrike">
                <a:solidFill>
                  <a:srgbClr val="000000"/>
                </a:solidFill>
                <a:latin typeface="Calibri"/>
              </a:rPr>
              <a:t>i minimalnej średnicy 20 nm. W odróżnieniu od techniki STM sonda ta skanuje powierzchnię, rejestrując siłę, a nie prąd, w funkcji położenia. AFM można prowadzić w warunkach wysokiej próżni, normalnej atmosfery lub nawet w warunkach, gdy badana próbka oraz sonda zanurzone są w cieczy. Technika ta jest bardzo przydatna do badań układów biologicznyc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rzeba zaznaczyć, że termin „mikroskopia sił atomowych" nie jest całkowicie uzasadniony przy opisie zjawisk prowadzących do otrzymania obrazu AFM. Ściśle rzecz ujmując, w większości przypadków uzyskujemy obrazy skaningowej mikroskopii sił. W metodzie AFM ostrze jest umieszczone na końcu dźwigni o długości od 100 do 200 |nm, która ugina się w wyniku działania sił między sondą a powierzchnią. Gdy końcówka ostrza przesuwa się wzdłuż próbki (lub próbka jest przesuwana pod ostrzem), ugięcie dźwigni mierzy się za pomocą odpowiedniego detektora. Topografia próbki odtwarzana jest na podstawie danych o ugięciu dźwigni. Ugięcie to jest zazwyczaj mierzone metodą optyczną za pomocą zogniskowanej wiązki lasera, która trafia do fotodetektora po odbiciu od powierzchni dźwign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strze używane do badań musi być bardzo cienkie. Im mniejszą ma średnicę na samym końcu, tym lepsza rozdzielczość otrzymywanych obrazów. Na potrzeby STM ostrza takie wykonuje się z drutu, najczęściej irydowo-platynowego albo wolframowego na drodze trawienia elektrochemicznego w roztworze KOH lub NaO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
          <p:cNvPicPr/>
          <p:nvPr/>
        </p:nvPicPr>
        <p:blipFill>
          <a:blip r:embed="rId1"/>
          <a:stretch/>
        </p:blipFill>
        <p:spPr>
          <a:xfrm>
            <a:off x="971640" y="2492280"/>
            <a:ext cx="7680240" cy="2648160"/>
          </a:xfrm>
          <a:prstGeom prst="rect">
            <a:avLst/>
          </a:prstGeom>
          <a:ln w="0">
            <a:noFill/>
          </a:ln>
        </p:spPr>
      </p:pic>
      <p:sp>
        <p:nvSpPr>
          <p:cNvPr id="120" name="Rectangle 4"/>
          <p:cNvSpPr/>
          <p:nvPr/>
        </p:nvSpPr>
        <p:spPr>
          <a:xfrm>
            <a:off x="1334880" y="907920"/>
            <a:ext cx="1956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Model ostrza igł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ts val="36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y fizyczne działania mikroskopu skaningowego:</a:t>
            </a:r>
            <a:endParaRPr b="0" lang="en-US" sz="1800" spc="-1" strike="noStrike">
              <a:solidFill>
                <a:srgbClr val="000000"/>
              </a:solidFill>
              <a:latin typeface="Calibri"/>
            </a:endParaRPr>
          </a:p>
          <a:p>
            <a:pPr indent="0" algn="just">
              <a:lnSpc>
                <a:spcPts val="36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kaningowy mikroskop elektronowy (SEM, z ang. scanning electron microscope) – to rodzaj mikroskopu elektronowego umożliwiający obserwację topografii badanego materiału. Służy do obserwacji i charakteryzacji materiałów organicznych i nieorganicznych w skali od nanometrycznej do mikrometrycznej. Wiązką pierwotną w tej metodzie jest wiązka elektronów. Pierwszy obraz (powierzchni próbki wykonanej ze stali transformatorowej) uzyskał niemiecki elektrotechnik Max Knoll w roku 193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estaw do tworzenia ostrzy wolframowych do STM metodą trawienia elektrochemicznego</a:t>
            </a:r>
            <a:r>
              <a:rPr b="0"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22" name="Picture 4" descr="DSCF1035"/>
          <p:cNvPicPr/>
          <p:nvPr/>
        </p:nvPicPr>
        <p:blipFill>
          <a:blip r:embed="rId1"/>
          <a:stretch/>
        </p:blipFill>
        <p:spPr>
          <a:xfrm>
            <a:off x="2195640" y="2492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692280"/>
            <a:ext cx="8229600" cy="540072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onda (drut wolframowy lub platynowo-irydowy o średnicy 0,2–0,5 mm) zawiera na końcu kryształ ustawiony wierzchołkiem w stronę ostrza – dzięki temu zakończeniem sondy jest dokładnie jeden atom. Odległość sondy od powierzchni próbki jest rzędu kilku dziesiątych nanometra(0,1nm do 1 nm). Przyłożone napięcie pomiędzy sondą </a:t>
            </a:r>
            <a:br>
              <a:rPr sz="2000"/>
            </a:br>
            <a:r>
              <a:rPr b="0" lang="pl-PL" sz="2000" spc="-1" strike="noStrike">
                <a:solidFill>
                  <a:srgbClr val="000000"/>
                </a:solidFill>
                <a:latin typeface="Arial"/>
              </a:rPr>
              <a:t>a próbką (od ułamków do kilku woltów). Tak małe napięcie nie jest wystarczające do tego, by elektron pokonał przyciąganie jonów metalu </a:t>
            </a:r>
            <a:br>
              <a:rPr sz="2000"/>
            </a:br>
            <a:r>
              <a:rPr b="0" lang="pl-PL" sz="2000" spc="-1" strike="noStrike">
                <a:solidFill>
                  <a:srgbClr val="000000"/>
                </a:solidFill>
                <a:latin typeface="Arial"/>
              </a:rPr>
              <a:t>i oderwał się od ostrza igły, ale dzięki temu, że próbka jest w niewielkiej odległości od ostrza igły, elektron przeskakuje przez zabroniony obszar (barierę potencjału) do badanej próbki w wyniku emisji polowej, istnienie której tłumaczy się kwantowym zjawiskiem tunelowym, dlatego też nazywany jest prądem tunelowy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Skaningowy mikroskop tunelowy - schemat.svg"/>
          <p:cNvPicPr/>
          <p:nvPr/>
        </p:nvPicPr>
        <p:blipFill>
          <a:blip r:embed="rId1"/>
          <a:stretch/>
        </p:blipFill>
        <p:spPr>
          <a:xfrm>
            <a:off x="1403280" y="828720"/>
            <a:ext cx="6985080" cy="5621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irus Nanoindentation by AFM</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MZb8C0f7Kdg</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68360" y="692280"/>
            <a:ext cx="8229600" cy="54007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ednym z największych problemów urządzeń STM i AFM jest czułość na drgania zewnętrzne. Drgania te mają amplitudę rzędu kilku μm, czyli są co najmniej 1000 razy większe niż odległość sondy od powierzchni próbki. Aby nie dochodziło do niekontrolowanych zderzeń sondy z powierzchnią próbki potrzebne są dodatkowe systemy tłumiące drgania. Początkowo był to duży problem dla konstruktorów tych urządzeń, lecz istniejące obecnie systemy antywibracyjne pozwalają działać tym urządzeniom nawet na niższych piętrach budynków. Źródłami drgań są: ruch samochodowy, kroki czy nawet hałas. Twórcy pierwszego skaningowego mikroskopu tunelowego do wytłumienia drgań wykorzystali zjawisko unoszenia się nadprzewodnika w polu magnetycznym – umieścili swój mikroskop na nadprzewodzącej czaszy ołowianej wypychanej na zewnątrz z niejednorodnego pola magnetyczneg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68360" y="691920"/>
            <a:ext cx="8229600" cy="5545080"/>
          </a:xfrm>
          <a:prstGeom prst="rect">
            <a:avLst/>
          </a:prstGeom>
          <a:noFill/>
          <a:ln w="0">
            <a:noFill/>
          </a:ln>
        </p:spPr>
        <p:txBody>
          <a:bodyPr anchor="t">
            <a:normAutofit/>
          </a:bodyPr>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stosowanie:</a:t>
            </a:r>
            <a:endParaRPr b="0" lang="en-US" sz="2000" spc="-1" strike="noStrike">
              <a:solidFill>
                <a:srgbClr val="000000"/>
              </a:solidFill>
              <a:latin typeface="Calibri"/>
            </a:endParaRPr>
          </a:p>
          <a:p>
            <a:pPr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za obrazowaniem struktury atomowej i profilu powierzchni skanowanej próbki, skaningowy mikroskop tunelowy znajduje inne zastosowania. Eksperymenty z mikroskopem STM doprowadziły do ważnego odkrycia. Jeżeli do igły przyłoży się większe napięcie niż przy skanowaniu, to może ona oderwać pojedynczy atom z powierzchni próbki i przełożyć go w inne miejsce. W ten sposób możliwa jest obróbka materiału na poziomie atomowym. Mikroskop STM stał się pierwszym prawdziwym narzędziem nanotechnologii.</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ttps://www.youtube.com/watch?v=DwB6l5cCf8E</a:t>
            </a:r>
            <a:br>
              <a:rPr sz="2000"/>
            </a:b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ation of an Atomic Force Microscop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ak to działa_ Mikroskop sił atomowych</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s://www.youtube.com/watch?v=1Wc0ki1pEVg</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ZIĘKUJĘ ZA UWAGĘ!</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620280"/>
            <a:ext cx="8229600" cy="5472360"/>
          </a:xfrm>
          <a:prstGeom prst="rect">
            <a:avLst/>
          </a:prstGeom>
          <a:noFill/>
          <a:ln w="0">
            <a:noFill/>
          </a:ln>
        </p:spPr>
        <p:txBody>
          <a:bodyPr anchor="t">
            <a:normAutofit/>
          </a:bodyPr>
          <a:p>
            <a:pPr indent="0" algn="just">
              <a:lnSpc>
                <a:spcPts val="36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uproszczonym rozumowaniu promieniowanie elektromagnetyczne może być opisane jako strumień fotonów, a poruszające się cząstki (zgodnie z hipotezą Ludwika de Broglie’a) jako fale. Mechanizm ten opisuje tzw. dualizm korpuskularno-falowy. Dla każdego zakresu promieniowania występuje wiele możliwości różnych procesów rozpraszania wiązki. Ogólnie, rozproszenie fal można podzielić na dwa procesy:</a:t>
            </a:r>
            <a:endParaRPr b="0" lang="en-US" sz="1800" spc="-1" strike="noStrike">
              <a:solidFill>
                <a:srgbClr val="000000"/>
              </a:solidFill>
              <a:latin typeface="Calibri"/>
            </a:endParaRPr>
          </a:p>
          <a:p>
            <a:pPr algn="just">
              <a:lnSpc>
                <a:spcPts val="36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rozpraszanie sprężyste, czyli zderzenia, podczas których nie dochodzi do zmian energii, a jedynie do zmiany kierunku padającej fali,</a:t>
            </a:r>
            <a:endParaRPr b="0" lang="en-US" sz="1800" spc="-1" strike="noStrike">
              <a:solidFill>
                <a:srgbClr val="000000"/>
              </a:solidFill>
              <a:latin typeface="Calibri"/>
            </a:endParaRPr>
          </a:p>
          <a:p>
            <a:pPr algn="just">
              <a:lnSpc>
                <a:spcPts val="3699"/>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rozpraszanie niesprężyste, czyli zderzenia, podczas których dochodzi zarówno do zmiany kierunku fali, jak i zmiany energ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1042920" y="404640"/>
            <a:ext cx="6769080" cy="4999320"/>
          </a:xfrm>
          <a:prstGeom prst="rect">
            <a:avLst/>
          </a:prstGeom>
          <a:ln w="0">
            <a:noFill/>
          </a:ln>
        </p:spPr>
      </p:pic>
      <p:sp>
        <p:nvSpPr>
          <p:cNvPr id="93" name="Rectangle 5"/>
          <p:cNvSpPr/>
          <p:nvPr/>
        </p:nvSpPr>
        <p:spPr>
          <a:xfrm>
            <a:off x="1124640" y="5804640"/>
            <a:ext cx="67964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Uproszczony schemat obrazujący oddziaływanie elektron-próbk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1024px-Schema_MEB_%28pl%29"/>
          <p:cNvPicPr/>
          <p:nvPr/>
        </p:nvPicPr>
        <p:blipFill>
          <a:blip r:embed="rId1"/>
          <a:stretch/>
        </p:blipFill>
        <p:spPr>
          <a:xfrm>
            <a:off x="826920" y="476280"/>
            <a:ext cx="7345440" cy="5164200"/>
          </a:xfrm>
          <a:prstGeom prst="rect">
            <a:avLst/>
          </a:prstGeom>
          <a:ln w="0">
            <a:noFill/>
          </a:ln>
        </p:spPr>
      </p:pic>
      <p:sp>
        <p:nvSpPr>
          <p:cNvPr id="95" name="Rectangle 4"/>
          <p:cNvSpPr/>
          <p:nvPr/>
        </p:nvSpPr>
        <p:spPr>
          <a:xfrm>
            <a:off x="1267200" y="5876280"/>
            <a:ext cx="62888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Schemat budowy skaningowego mikroskopu elektronowe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210px-Misc_pollen_colorized"/>
          <p:cNvPicPr/>
          <p:nvPr/>
        </p:nvPicPr>
        <p:blipFill>
          <a:blip r:embed="rId1"/>
          <a:stretch/>
        </p:blipFill>
        <p:spPr>
          <a:xfrm>
            <a:off x="1979640" y="692280"/>
            <a:ext cx="5329080" cy="4060800"/>
          </a:xfrm>
          <a:prstGeom prst="rect">
            <a:avLst/>
          </a:prstGeom>
          <a:ln w="0">
            <a:noFill/>
          </a:ln>
        </p:spPr>
      </p:pic>
      <p:sp>
        <p:nvSpPr>
          <p:cNvPr id="97" name="Rectangle 4"/>
          <p:cNvSpPr/>
          <p:nvPr/>
        </p:nvSpPr>
        <p:spPr>
          <a:xfrm>
            <a:off x="539640" y="5084640"/>
            <a:ext cx="8209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yłki kwiatowe obserwowane za pomocą SEM, ukazujące charakterystyczną głębię ostroś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ts val="3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ff"/>
                </a:solidFill>
                <a:uFillTx/>
                <a:latin typeface="Arial"/>
                <a:hlinkClick r:id="rId1"/>
              </a:rPr>
              <a:t>https://www.youtube.com/watch?v=WgDxnTxqoMA</a:t>
            </a:r>
            <a:endParaRPr b="0" lang="en-US" sz="2000" spc="-1" strike="noStrike">
              <a:solidFill>
                <a:srgbClr val="000000"/>
              </a:solidFill>
              <a:latin typeface="Calibri"/>
            </a:endParaRPr>
          </a:p>
          <a:p>
            <a:pPr indent="0" algn="just">
              <a:lnSpc>
                <a:spcPts val="3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ts val="36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0000ff"/>
                </a:solidFill>
                <a:uFillTx/>
                <a:latin typeface="Arial"/>
                <a:hlinkClick r:id="rId2"/>
              </a:rPr>
              <a:t>Mikroskop skaningowy w AG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125000"/>
            <a:ext cx="8229600" cy="4526280"/>
          </a:xfrm>
          <a:prstGeom prst="rect">
            <a:avLst/>
          </a:prstGeom>
          <a:noFill/>
          <a:ln w="0">
            <a:noFill/>
          </a:ln>
        </p:spPr>
        <p:txBody>
          <a:bodyPr anchor="t">
            <a:normAutofit/>
          </a:bodyPr>
          <a:p>
            <a:pPr indent="0" algn="just">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y fizyczne działania skaningowego mikroskopu </a:t>
            </a:r>
            <a:r>
              <a:rPr b="1" lang="pl-PL" sz="3200" spc="-1" strike="noStrike">
                <a:solidFill>
                  <a:srgbClr val="000000"/>
                </a:solidFill>
                <a:latin typeface="Arial"/>
              </a:rPr>
              <a:t>tunelowego</a:t>
            </a:r>
            <a:r>
              <a:rPr b="0" lang="pl-PL" sz="3200" spc="-1" strike="noStrike">
                <a:solidFill>
                  <a:srgbClr val="000000"/>
                </a:solidFill>
                <a:latin typeface="Arial"/>
              </a:rPr>
              <a:t> i mikroskopu </a:t>
            </a:r>
            <a:r>
              <a:rPr b="1" lang="pl-PL" sz="3200" spc="-1" strike="noStrike">
                <a:solidFill>
                  <a:srgbClr val="000000"/>
                </a:solidFill>
                <a:latin typeface="Arial"/>
              </a:rPr>
              <a:t>sił atomowych</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jacek</cp:lastModifiedBy>
  <dcterms:modified xsi:type="dcterms:W3CDTF">2015-04-09T08:01:59Z</dcterms:modified>
  <cp:revision>107</cp:revision>
  <dc:subject/>
  <dc:title>KORPUSKULARNO-FALOWA NATURA ŚWIATŁA</dc:title>
</cp:coreProperties>
</file>